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camera.wav" ContentType="audio/x-wav"/>
  <Override PartName="/ppt/media/image7.jpeg" ContentType="image/jpeg"/>
  <Override PartName="/ppt/media/image10.wmf" ContentType="image/x-wmf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4C2-E5E7-4C25-B958-E1A1A0B7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B9D-96AA-4E78-AB6C-F3B26298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57E-1785-457D-9412-51FE2359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FA3-3770-4AFF-8CBA-19477B6E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5A30-4986-46BD-B05F-34F4FBF8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691D-DC83-4627-BB30-7F7928A8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B342-4D54-4597-BE3B-D91FFF29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2F83-1238-462D-A8AC-5752BBE8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CD89-145D-4D82-866A-E00C6246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15E2-65AA-4D75-A897-3AD4F4FB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FB76-7742-4A93-963F-77DC9D28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4FD-B80F-461A-B449-37280EC7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6EA7-56AE-4836-8AFE-7CE9F16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C6F5-B3CF-4F5A-B017-5EC40E9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B483-09CC-4AEE-8367-DE63BED7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FAF0-56DA-43B9-90FA-5F17791C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0D9A-0FD4-42AC-8F83-F7B416BC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DDE-20FB-476D-96DB-9E90C77E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2C1-C5B1-4A7C-9BF4-1B94DD98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0F2-7E4B-4A17-827E-86E519BE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9DA-AB34-43F0-8369-7A8FE8B0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ECE-9810-43B1-B07F-3FEF543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BFA-D59C-4569-B947-4285293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3B5-3653-4070-BB80-E3788C43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1028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1029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1030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1031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1032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1033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34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035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036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037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038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039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040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041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042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043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1044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1045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1046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1047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1048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1049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1050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1051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1081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1082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1083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1084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1086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E7E7-67CE-4B54-B230-2F3323BA2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CDEC-1C34-4A4A-9A2F-5EF04B260FD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ratherbiased.com/index2.htm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obvila.com/BVTV/HomeAgain/Episode-1409.html" TargetMode="External"/><Relationship Id="rId3" Type="http://schemas.openxmlformats.org/officeDocument/2006/relationships/hyperlink" Target="http://www.bobvila.com/BVTV/HomeAgain/Episode-1409.html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formative Spea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430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ech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4" descr="C:\Program Files\Microsoft Office\Clipart\Pub60Cor\pe00898_.wmf"/>
          <p:cNvPicPr/>
          <p:nvPr/>
        </p:nvPicPr>
        <p:blipFill>
          <a:blip r:embed="rId1"/>
          <a:stretch/>
        </p:blipFill>
        <p:spPr>
          <a:xfrm>
            <a:off x="1600200" y="3865680"/>
            <a:ext cx="579132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chniques of Informative Speaking, co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ke it easy to list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atch for information overlo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oose 3 to 5 main ide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information and examples that connect to the aud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simple information and build up to complex ide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4" descr="\\select\Select\SMS2.0PKGS\Publisher2000\PFiles\MSOffice\Clipart\standard\stddir1\bd05555_.wmf"/>
          <p:cNvPicPr/>
          <p:nvPr/>
        </p:nvPicPr>
        <p:blipFill>
          <a:blip r:embed="rId2"/>
          <a:stretch/>
        </p:blipFill>
        <p:spPr>
          <a:xfrm>
            <a:off x="6095880" y="762120"/>
            <a:ext cx="2579760" cy="1528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chniques of Informative Speaking, co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mphasize important poi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pet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wording of important poi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gnpo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rds or phrases that emphasize the importance of what you are about to sa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714760" y="2460600"/>
            <a:ext cx="914400" cy="2620800"/>
            <a:chOff x="2714760" y="2460600"/>
            <a:chExt cx="914400" cy="2620800"/>
          </a:xfrm>
        </p:grpSpPr>
        <p:sp>
          <p:nvSpPr>
            <p:cNvPr id="241" name="Rectangle 5"/>
            <p:cNvSpPr/>
            <p:nvPr/>
          </p:nvSpPr>
          <p:spPr>
            <a:xfrm>
              <a:off x="2714760" y="2460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2714760" y="2460600"/>
              <a:ext cx="914400" cy="26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n-US" sz="142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                      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43" name="Picture 7" descr="http://www.holidays.net/mlk/images/numlk.jpg"/>
          <p:cNvPicPr/>
          <p:nvPr/>
        </p:nvPicPr>
        <p:blipFill>
          <a:blip r:embed="rId2"/>
          <a:stretch/>
        </p:blipFill>
        <p:spPr>
          <a:xfrm>
            <a:off x="6477120" y="1219320"/>
            <a:ext cx="2149200" cy="2263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s of Informative Speaking, con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ke the message cle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 aware of what you intend to communic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uld this message sound clear to you if you heard if for the first tim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s of Informative Speaking, con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ke the presentation interes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late to your listeners intere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interesting presentation ai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hum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humor to make a poi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ke yourself the butt of the jok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humorous quot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ganization &amp; Structur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tion (tell what you’re going to sa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audience interest and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view thesis/purpose stat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view main po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ganization &amp; Structur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Body (say i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 division of main points to 3 to 5 subpo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good transi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der points in a way that is easy to understand and re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ganization &amp; Structur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conclusion (tell what you’ve sai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ew main po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mind audience why the subject is important to th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 the audience with a memory ai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Organization &amp; Structur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nerate audience invol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nition: level of commitment and attention that listeners devote to a spee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p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sonalize your spee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audience particip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volunte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ve a question and answer peri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roduction &amp;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formative vs. Persuasive Speech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ypes of informative spe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chniques of informative spe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ganization and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3" name="Picture 7" descr="http://www.ratherbiased.com/photos/dan_wid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76520" y="4038480"/>
            <a:ext cx="5726160" cy="260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nformative vs. Persuasive Speech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formative speeches are non-controvers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formative speaker does not intend to change audience attitu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6" descr="Image: Tom Brokaw"/>
          <p:cNvPicPr/>
          <p:nvPr/>
        </p:nvPicPr>
        <p:blipFill>
          <a:blip r:embed="rId3"/>
          <a:stretch/>
        </p:blipFill>
        <p:spPr>
          <a:xfrm>
            <a:off x="1371600" y="4114800"/>
            <a:ext cx="2286000" cy="24004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-714240" y="166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16" descr="http://www.noi.org/images/mlf-press3.jpg"/>
          <p:cNvPicPr/>
          <p:nvPr/>
        </p:nvPicPr>
        <p:blipFill>
          <a:blip r:embed="rId4"/>
          <a:stretch/>
        </p:blipFill>
        <p:spPr>
          <a:xfrm>
            <a:off x="5410080" y="4114800"/>
            <a:ext cx="221004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Informative Spea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con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purpo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d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v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as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6" descr="Peter Jennings"/>
          <p:cNvPicPr/>
          <p:nvPr/>
        </p:nvPicPr>
        <p:blipFill>
          <a:blip r:embed="rId8"/>
          <a:stretch/>
        </p:blipFill>
        <p:spPr>
          <a:xfrm>
            <a:off x="4419720" y="1676520"/>
            <a:ext cx="3427200" cy="422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nformative Speeches by Conten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r speech can inform based 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ce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e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angible ideas, beliefs, theories or princip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Picture 5" descr="photo of Grand Canyon National Park"/>
          <p:cNvPicPr/>
          <p:nvPr/>
        </p:nvPicPr>
        <p:blipFill>
          <a:blip r:embed="rId2"/>
          <a:stretch/>
        </p:blipFill>
        <p:spPr>
          <a:xfrm>
            <a:off x="4495680" y="2438280"/>
            <a:ext cx="325764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nformative Speeches by Purpos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r speech can inform based 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rip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anation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ructions 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5" descr="http://www.bobvila.com/images/BVTV/HomeAgain/ProjectImages/1409_episo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666880"/>
            <a:ext cx="3373200" cy="3373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formative speech about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mple, straightforward spee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ple: cello, digital cameras, stamp coll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ime limit determines the amount of detail one can sh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formative speech about peo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iographical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need to tell everything about a person; Relate information to a specific purpo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chniques of Informative Speaking, cont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information hun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ive the audience a reason to listen to and learn from your spee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Picture 4" descr="\\select\Select\SMS2.0PKGS\Publisher2000\PFiles\MSOffice\Clipart\standard\stddir3\pe01627_.wmf"/>
          <p:cNvPicPr/>
          <p:nvPr/>
        </p:nvPicPr>
        <p:blipFill>
          <a:blip r:embed="rId2"/>
          <a:stretch/>
        </p:blipFill>
        <p:spPr>
          <a:xfrm>
            <a:off x="1447920" y="3657600"/>
            <a:ext cx="5867280" cy="293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0:10:18Z</dcterms:created>
  <dc:creator>lwinslow</dc:creator>
  <dc:description/>
  <dc:language>en-US</dc:language>
  <cp:lastModifiedBy>Angie McCall</cp:lastModifiedBy>
  <dcterms:modified xsi:type="dcterms:W3CDTF">2013-11-12T16:53:08Z</dcterms:modified>
  <cp:revision>26</cp:revision>
  <dc:subject/>
  <dc:title>Informative Speaking</dc:title>
</cp:coreProperties>
</file>